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3252-B165-4ABA-9596-06D624F50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4757-4C77-40B5-849C-67BF4ECE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9293-4A7C-486E-91DB-EB7FBFEE6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9B91-83A4-4482-A30E-FA68A92D0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CBAF-97CC-4F92-AFF3-EF34D0D8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2185-41C8-42A7-AD75-6EBB5D60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8199-FB7E-4FEA-BDE2-3BBFFA9C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2BBB-3539-4498-97D0-E0E69640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C241-FEF5-422F-A965-C2EA642E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E03A-9438-4B15-97FF-7A19DFB7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3667-DF8E-4DD5-857E-6A2C5E83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51B8-22F5-4FE7-A145-0C660366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668F-1A70-47B9-9A99-894EE6425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7507080" cy="1143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43520" y="232236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05120" y="2438280"/>
            <a:ext cx="5678280" cy="4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848720" cy="1436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38080" y="2666880"/>
            <a:ext cx="7086600" cy="405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066680" y="3962520"/>
            <a:ext cx="739152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381880" cy="819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66880" y="1981080"/>
            <a:ext cx="56390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524800" cy="19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2262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666880" y="2286000"/>
            <a:ext cx="22100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3200400"/>
            <a:ext cx="21337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8960" y="26496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6846840" cy="368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7543800" cy="14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167680" cy="952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514600" y="2057400"/>
            <a:ext cx="4572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205740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924680" y="2057400"/>
            <a:ext cx="3812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372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2T22:52:15Z</dcterms:created>
  <dc:creator>Graham</dc:creator>
  <dc:description/>
  <dc:language>en-US</dc:language>
  <cp:lastModifiedBy>Graham</cp:lastModifiedBy>
  <dcterms:modified xsi:type="dcterms:W3CDTF">2011-10-22T22:52:20Z</dcterms:modified>
  <cp:revision>1</cp:revision>
  <dc:subject/>
  <dc:title>Slide 1</dc:title>
</cp:coreProperties>
</file>